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5D0-5525-424A-B2AF-5B788A64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2E2-B799-4710-89F3-5C4A8E84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C3D-B1A0-4A74-AC66-2FB077B9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742-9ED4-462F-80C7-9DA1F52C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031-5AF7-41C3-B9DB-B09197DB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0663-7350-470F-A518-A221F07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FA69-4909-4B40-BC7E-45F89A46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F62-E285-42A9-B635-A5B5F239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9758-61E7-47A5-9FC0-8C293EC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740B-137F-45FF-88E2-B4F9FBE0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74BF-BBCE-4AC9-BA95-FEF7E720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EF4-D60E-4139-87AE-CB4BA874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A159-5214-4AFA-B561-152CEB8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3F1C-4640-460A-9A5A-A4603859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89D3-E6DD-4CC3-AA08-E7239275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3FBF-5FA7-453C-BB9B-62EE2190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8111-1710-44FB-81BE-294519DD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D47-ED0E-4F7C-B9B1-68FECF4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E60-1581-4300-A8DF-BC429442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906-AAAC-4264-A508-2A4DA7CE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AB9-E280-4A0F-9CEE-B556901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13A-0F3F-406C-83E3-4FC642A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0F0-2D41-47D9-8B5C-221DB664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CF5-7A1A-4A8E-8157-AE5FF31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E49-BFF5-42B2-9F39-33454B9534F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18F4-9BF9-4426-B5F4-ABB803B7DA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Sources of Instructional Goal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 – What does the child need to know developmentall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 – What does the child need to know in order to be able to function well in our society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ademic Disciplines – What content within a discipline is important to teac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shine State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Content Placeholder 3" descr=""/>
          <p:cNvPicPr/>
          <p:nvPr/>
        </p:nvPicPr>
        <p:blipFill>
          <a:blip r:embed="rId1"/>
          <a:srcRect l="-18748" t="0" r="-18748" b="0"/>
          <a:stretch/>
        </p:blipFill>
        <p:spPr>
          <a:xfrm>
            <a:off x="-1295280" y="152280"/>
            <a:ext cx="117345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Content Placeholder 3" descr=""/>
          <p:cNvPicPr/>
          <p:nvPr/>
        </p:nvPicPr>
        <p:blipFill>
          <a:blip r:embed="rId1"/>
          <a:srcRect l="-6381" t="0" r="-6381" b="0"/>
          <a:stretch/>
        </p:blipFill>
        <p:spPr>
          <a:xfrm>
            <a:off x="-457200" y="762120"/>
            <a:ext cx="10058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objectives in the                        schools tend to come                             from the cognitive                            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ve domain most referred to: Bloom’s Taxonomy of Educational Objectives; six hierarchical lev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34936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ree-Phase Approach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or Teaching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 – select goal and approach means by which to achiev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ing – actual performance of a strate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ng –                         determining if                        instruction has                              been success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800600" y="397188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rcRect l="-6363" t="0" r="-6363" b="0"/>
          <a:stretch/>
        </p:blipFill>
        <p:spPr>
          <a:xfrm>
            <a:off x="-520560" y="609480"/>
            <a:ext cx="1019808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tudent-Friendly Academic Scal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Content Placeholder 5" descr=""/>
          <p:cNvPicPr/>
          <p:nvPr/>
        </p:nvPicPr>
        <p:blipFill>
          <a:blip r:embed="rId1"/>
          <a:srcRect l="0" t="-487" r="0" b="-487"/>
          <a:stretch/>
        </p:blipFill>
        <p:spPr>
          <a:xfrm>
            <a:off x="76320" y="1600200"/>
            <a:ext cx="89406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fessional Learning Communities (PLC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fully-organized groups that work together on projects and other such tasks over a period of t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in PLCs tend to plan together, brainstorm ideas and activities, etc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organize students into groups to work together, the groups can be called home-base group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me Base Grou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remely appropriate at the upper elementary, middle school, and lower high schools lev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fully-arranged groups to work together on projects and other such assignments over a period of time.  May or may not meet outside of class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oup Guidelines/R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groups are formed, as a group you are to come up with a team name and motto or slo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come up with                      guidelines/rules by                              which your group will                       op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group members should contribute to the list and all members should agree on the guidelin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181480" y="314964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ing Continuum Sca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ale is an attempt to create a continuum that delineates distinct levels of knowledge and skill relative to a specific topi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can be thought of as an applied version of a learning progress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ell-written scale should make it easy for teachers to design and score assessment tasks that can be used to generate both formative and summative sco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02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330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Robert Marz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-21276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For Teacher Use:  An Academic Sca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rcRect l="-6381" t="0" r="-6381" b="0"/>
          <a:stretch/>
        </p:blipFill>
        <p:spPr>
          <a:xfrm>
            <a:off x="-457200" y="990720"/>
            <a:ext cx="10058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1904760"/>
            <a:ext cx="28195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or Teacher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nd Student                                                          Use: 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Checking for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Understanding Scal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20120405_102637 (1).jpg"/>
          <p:cNvPicPr/>
          <p:nvPr/>
        </p:nvPicPr>
        <p:blipFill>
          <a:blip r:embed="rId1"/>
          <a:stretch/>
        </p:blipFill>
        <p:spPr>
          <a:xfrm>
            <a:off x="3940200" y="28440"/>
            <a:ext cx="5203800" cy="6829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1219320" y="5857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Courtesy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Hamilton Elementa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Grade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photo"/>
          <p:cNvPicPr/>
          <p:nvPr/>
        </p:nvPicPr>
        <p:blipFill>
          <a:blip r:embed="rId1"/>
          <a:srcRect l="0" t="10523" r="0" b="10523"/>
          <a:stretch/>
        </p:blipFill>
        <p:spPr>
          <a:xfrm>
            <a:off x="2743200" y="123840"/>
            <a:ext cx="6324480" cy="6657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905120"/>
            <a:ext cx="266724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For Teacher 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and Student                                                          Use: Combination Academic Scale and  Checking for </a:t>
            </a:r>
            <a:br>
              <a:rPr sz="2000"/>
            </a:b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Understanding Scale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4-01-15T08:32:52Z</cp:lastPrinted>
  <dcterms:modified xsi:type="dcterms:W3CDTF">2014-01-15T08:36:40Z</dcterms:modified>
  <cp:revision>220</cp:revision>
  <dc:subject/>
  <dc:title>Slide 1</dc:title>
</cp:coreProperties>
</file>